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PROJCTOR.WAV" ContentType="audio/x-wav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3.wmf" ContentType="image/x-wmf"/>
  <Override PartName="/ppt/media/image11.wmf" ContentType="image/x-wmf"/>
  <Override PartName="/ppt/media/image10.wmf" ContentType="image/x-wmf"/>
  <Override PartName="/ppt/media/image12.wmf" ContentType="image/x-wmf"/>
  <Override PartName="/ppt/media/image1.gif" ContentType="image/gif"/>
  <Override PartName="/ppt/media/image4.wmf" ContentType="image/x-wmf"/>
  <Override PartName="/ppt/media/image34.wmf" ContentType="image/x-wmf"/>
  <Override PartName="/ppt/media/image14.wmf" ContentType="image/x-wmf"/>
  <Override PartName="/ppt/media/LASER.WAV" ContentType="audio/x-wav"/>
  <Override PartName="/ppt/media/image24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26.wmf" ContentType="image/x-wmf"/>
  <Override PartName="/ppt/media/image33.wmf" ContentType="image/x-wmf"/>
  <Override PartName="/ppt/media/image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27.wmf" ContentType="image/x-wmf"/>
  <Override PartName="/ppt/media/image28.wmf" ContentType="image/x-wmf"/>
  <Override PartName="/ppt/media/image30.wmf" ContentType="image/x-wmf"/>
  <Override PartName="/ppt/media/image31.wmf" ContentType="image/x-wmf"/>
  <Override PartName="/ppt/media/highchime.wav" ContentType="audio/x-wav"/>
  <Override PartName="/ppt/media/GUNSHOT.WAV" ContentType="audio/x-wav"/>
  <Override PartName="/ppt/media/image29.wmf" ContentType="image/x-wmf"/>
  <Override PartName="/ppt/media/WHOOSH.WAV" ContentType="audio/x-wav"/>
  <Override PartName="/ppt/media/image16.wmf" ContentType="image/x-wmf"/>
  <Override PartName="/ppt/media/CAMERA.WAV" ContentType="audio/x-wav"/>
  <Override PartName="/ppt/media/image37.wmf" ContentType="image/x-wmf"/>
  <Override PartName="/ppt/media/DRUMROLL.WAV" ContentType="audio/x-wav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170-4757-4B53-B739-258DE166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2E2-1868-4184-8470-8240AD89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BC3-13C4-4435-967F-E210C61B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86B-743A-4869-A78E-51132FCE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954-054A-4D54-9497-47D0F136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6FA-AC83-42E3-AEB8-9BDC4E96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F65-3B77-4460-95F4-6214AA8C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C9E-0195-4F95-8159-05FB19FB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50A-D860-4E4D-BD27-E3785552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90D-4660-4EC7-819E-E96CD4FA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997-6405-435C-8948-19356E4F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1F5-D60E-41FB-B52A-809AADCC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4A42-D563-42DB-AC41-F532EC233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audio" Target="../media/WHOOSH.WAV"/><Relationship Id="rId14" Type="http://schemas.openxmlformats.org/officeDocument/2006/relationships/audio" Target="../media/LASER.WAV"/><Relationship Id="rId15" Type="http://schemas.openxmlformats.org/officeDocument/2006/relationships/audio" Target="../media/CAMERA.WAV"/><Relationship Id="rId16" Type="http://schemas.openxmlformats.org/officeDocument/2006/relationships/audio" Target="../media/GUNSHOT.WAV"/><Relationship Id="rId17" Type="http://schemas.openxmlformats.org/officeDocument/2006/relationships/audio" Target="../media/LASER.WAV"/><Relationship Id="rId18" Type="http://schemas.openxmlformats.org/officeDocument/2006/relationships/audio" Target="../media/CAMERA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GUNSHOT.WAV"/><Relationship Id="rId16" Type="http://schemas.openxmlformats.org/officeDocument/2006/relationships/audio" Target="../media/LASER.WAV"/><Relationship Id="rId17" Type="http://schemas.openxmlformats.org/officeDocument/2006/relationships/audio" Target="../media/CAMERA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LASER.WAV"/><Relationship Id="rId19" Type="http://schemas.openxmlformats.org/officeDocument/2006/relationships/audio" Target="../media/CAMERA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GUNSHOT.WAV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GUNSHOT.WAV"/><Relationship Id="rId11" Type="http://schemas.openxmlformats.org/officeDocument/2006/relationships/audio" Target="../media/LASER.WAV"/><Relationship Id="rId12" Type="http://schemas.openxmlformats.org/officeDocument/2006/relationships/audio" Target="../media/CAMERA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audio" Target="../media/PROJCTO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DRUMROLL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GUNSHOT.WAV"/><Relationship Id="rId24" Type="http://schemas.openxmlformats.org/officeDocument/2006/relationships/audio" Target="../media/GUNSHOT.WAV"/><Relationship Id="rId25" Type="http://schemas.openxmlformats.org/officeDocument/2006/relationships/audio" Target="../media/DRUMROLL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GUNSHOT.WAV"/><Relationship Id="rId29" Type="http://schemas.openxmlformats.org/officeDocument/2006/relationships/audio" Target="../media/GUNSHOT.WAV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audio" Target="../media/DRUMROLL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DRUMROLL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GUNSHOT.WAV"/><Relationship Id="rId26" Type="http://schemas.openxmlformats.org/officeDocument/2006/relationships/audio" Target="../media/GUNSHOT.WAV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093000"/>
            <a:chOff x="0" y="0"/>
            <a:chExt cx="9144000" cy="60930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Notes Over 1.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515960" y="787320"/>
              <a:ext cx="6086520" cy="530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762120"/>
            <a:ext cx="9144000" cy="1404360"/>
            <a:chOff x="0" y="762120"/>
            <a:chExt cx="9144000" cy="1404360"/>
          </a:xfrm>
        </p:grpSpPr>
        <p:sp>
          <p:nvSpPr>
            <p:cNvPr id="46" name=""/>
            <p:cNvSpPr/>
            <p:nvPr/>
          </p:nvSpPr>
          <p:spPr>
            <a:xfrm>
              <a:off x="0" y="76212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aluate the expression for the given value of the variabl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1219320"/>
              <a:ext cx="8534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Evaluat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means replace the variable by a number and work it out using order of operation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515880" y="2093760"/>
          <a:ext cx="442764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2093760"/>
                    <a:ext cx="44276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219320" y="2819520"/>
          <a:ext cx="157464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819520"/>
                    <a:ext cx="157464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143000" y="3657600"/>
          <a:ext cx="1295280" cy="5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657600"/>
                    <a:ext cx="1295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7200" y="4267080"/>
          <a:ext cx="424656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267080"/>
                    <a:ext cx="42465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43000" y="5105520"/>
                <a:ext cx="10335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7" name=""/>
          <p:cNvGraphicFramePr/>
          <p:nvPr/>
        </p:nvGraphicFramePr>
        <p:xfrm>
          <a:off x="2057400" y="5257800"/>
          <a:ext cx="425124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5257800"/>
                    <a:ext cx="4251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057400" y="5867280"/>
          <a:ext cx="1355760" cy="64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5867280"/>
                    <a:ext cx="13557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 for the given value of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219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s replace the variable by a number and 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74640" y="2162160"/>
          <a:ext cx="411156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2162160"/>
                    <a:ext cx="41115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351080" y="2828880"/>
          <a:ext cx="13096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1080" y="2828880"/>
                    <a:ext cx="13096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376280" y="3581280"/>
          <a:ext cx="86832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6280" y="3581280"/>
                    <a:ext cx="868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69880" y="4395960"/>
          <a:ext cx="424656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9880" y="4395960"/>
                    <a:ext cx="424656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219320" y="5029200"/>
          <a:ext cx="995400" cy="81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029200"/>
                    <a:ext cx="9954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979560" y="5867280"/>
          <a:ext cx="1461960" cy="64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9560" y="5867280"/>
                    <a:ext cx="14619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 for the given value of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219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s replace the variable by a number and 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01480" y="2071800"/>
          <a:ext cx="442944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2071800"/>
                    <a:ext cx="44294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12840" y="2803680"/>
                <a:ext cx="9856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82" name=""/>
          <p:cNvGraphicFramePr/>
          <p:nvPr/>
        </p:nvGraphicFramePr>
        <p:xfrm>
          <a:off x="928800" y="3772080"/>
          <a:ext cx="15811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3772080"/>
                    <a:ext cx="1581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19040" y="4486320"/>
          <a:ext cx="420228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040" y="4486320"/>
                    <a:ext cx="42022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085760" y="5100480"/>
                <a:ext cx="9892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87" name=""/>
          <p:cNvGraphicFramePr/>
          <p:nvPr/>
        </p:nvGraphicFramePr>
        <p:xfrm>
          <a:off x="1996920" y="5295960"/>
          <a:ext cx="407196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96920" y="5295960"/>
                    <a:ext cx="4071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996920" y="5943600"/>
          <a:ext cx="205596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96920" y="5943600"/>
                    <a:ext cx="2055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191120" y="5943600"/>
          <a:ext cx="162864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91120" y="5943600"/>
                    <a:ext cx="1628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 for the given value of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219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s replace the variable by a number and 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8600" y="2133720"/>
                <a:ext cx="81788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when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030320" y="2994120"/>
                <a:ext cx="18939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98" name=""/>
          <p:cNvGraphicFramePr/>
          <p:nvPr/>
        </p:nvGraphicFramePr>
        <p:xfrm>
          <a:off x="1295280" y="4038480"/>
          <a:ext cx="20480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038480"/>
                    <a:ext cx="2048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57200" y="4648320"/>
          <a:ext cx="736596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648320"/>
                    <a:ext cx="73659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54000" y="5356080"/>
                <a:ext cx="2481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3200400" y="5562720"/>
          <a:ext cx="97632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5562720"/>
                    <a:ext cx="976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200400" y="6210360"/>
          <a:ext cx="162864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6210360"/>
                    <a:ext cx="1628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887560" y="2994120"/>
                <a:ext cx="14828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08" name=""/>
          <p:cNvGraphicFramePr/>
          <p:nvPr/>
        </p:nvGraphicFramePr>
        <p:xfrm>
          <a:off x="3352680" y="4038480"/>
          <a:ext cx="153684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4038480"/>
                    <a:ext cx="1536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114800" y="5562720"/>
          <a:ext cx="151128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5562720"/>
                    <a:ext cx="1511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 for the given value of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219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s replace the variable by a number and 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11200" y="2209680"/>
          <a:ext cx="46101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2209680"/>
                    <a:ext cx="46101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57320" y="2994120"/>
                <a:ext cx="13446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8" name=""/>
          <p:cNvGraphicFramePr/>
          <p:nvPr/>
        </p:nvGraphicFramePr>
        <p:xfrm>
          <a:off x="1676520" y="3962520"/>
          <a:ext cx="127476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962520"/>
                    <a:ext cx="12747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5840" y="4529160"/>
                <a:ext cx="50911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878040" y="5356080"/>
                <a:ext cx="180324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2590920" y="6210360"/>
          <a:ext cx="162864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6210360"/>
                    <a:ext cx="1628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349360" y="3124080"/>
                <a:ext cx="16160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625840" y="5326200"/>
                <a:ext cx="1854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following area and volume given the form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77920" y="2516040"/>
                <a:ext cx="25290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9" name=""/>
          <p:cNvGraphicFramePr/>
          <p:nvPr/>
        </p:nvGraphicFramePr>
        <p:xfrm>
          <a:off x="4876920" y="2666880"/>
          <a:ext cx="153648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666880"/>
                    <a:ext cx="15364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486240" y="2743200"/>
          <a:ext cx="6760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6240" y="2743200"/>
                    <a:ext cx="6760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0" y="198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Find the area of a square when s = 10 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324480" y="2514600"/>
          <a:ext cx="81288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2514600"/>
                    <a:ext cx="81288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0" y="1295280"/>
          <a:ext cx="4322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295280"/>
                    <a:ext cx="4322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492800" y="1295280"/>
          <a:ext cx="4651200" cy="54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2800" y="1295280"/>
                    <a:ext cx="4651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174760" y="4260960"/>
                <a:ext cx="23637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41" name=""/>
          <p:cNvGraphicFramePr/>
          <p:nvPr/>
        </p:nvGraphicFramePr>
        <p:xfrm>
          <a:off x="4854600" y="4419720"/>
          <a:ext cx="1581120" cy="61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54600" y="4419720"/>
                    <a:ext cx="158112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624120" y="4495680"/>
          <a:ext cx="400320" cy="53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24120" y="4495680"/>
                    <a:ext cx="400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373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Find the volume of a cube when s = 6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299280" y="4267080"/>
          <a:ext cx="863640" cy="770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99280" y="4267080"/>
                    <a:ext cx="86364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following area and volume given the form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120760" y="2536920"/>
                <a:ext cx="2471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51" name=""/>
          <p:cNvGraphicFramePr/>
          <p:nvPr/>
        </p:nvGraphicFramePr>
        <p:xfrm>
          <a:off x="4876920" y="2666880"/>
          <a:ext cx="204948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666880"/>
                    <a:ext cx="20494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19640" y="2743200"/>
          <a:ext cx="8110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2743200"/>
                    <a:ext cx="8110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0" y="198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 Find the area of a square when s = 5.2 c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0" y="2514600"/>
          <a:ext cx="112716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2514600"/>
                    <a:ext cx="11271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0" y="1295280"/>
          <a:ext cx="4322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295280"/>
                    <a:ext cx="4322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492800" y="1295280"/>
          <a:ext cx="4651200" cy="54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2800" y="1295280"/>
                    <a:ext cx="4651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104920" y="4273560"/>
                <a:ext cx="25178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4800600" y="4419720"/>
          <a:ext cx="2305080" cy="61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4419720"/>
                    <a:ext cx="230508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419640" y="4495680"/>
          <a:ext cx="811080" cy="53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19640" y="4495680"/>
                    <a:ext cx="8110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0" y="373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 Find the volume of a cube when s = 3.5 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010280" y="4267080"/>
          <a:ext cx="812880" cy="770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10280" y="4267080"/>
                    <a:ext cx="81288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295280"/>
            <a:ext cx="815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Lucida Handwriting"/>
              </a:rPr>
              <a:t>Pg 11  1-2 #4-9, 10-40 eve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DAMON SKELTON</cp:lastModifiedBy>
  <dcterms:modified xsi:type="dcterms:W3CDTF">2004-09-11T20:34:38Z</dcterms:modified>
  <cp:revision>19</cp:revision>
  <dc:subject/>
  <dc:title>No Slide Title</dc:title>
</cp:coreProperties>
</file>